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580-AF92-44A0-ABBE-93A0C9D1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1D6-C7BC-4146-99CF-FC98D8BB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E42-D14E-4D54-A2B8-5DC60185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26E-05A3-4B30-B89C-14AD101B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B3E-DA27-4615-B0E5-DA77B0F8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43F-A3AD-48BB-AFB9-696F9A64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8D3-81BC-438F-A56A-BCFAF5E3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DA2-431E-4465-B959-249C5C3C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FBF-937F-45BD-8DFB-620FB8E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C6E-0300-48BE-86E4-AA129022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602-F317-4A29-BB24-187E2F68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50F-AAD2-4692-AE10-CD0A9481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35D2-15EA-40FC-86E8-8DD3E02BB037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MG_2734"/>
          <p:cNvPicPr/>
          <p:nvPr/>
        </p:nvPicPr>
        <p:blipFill>
          <a:blip r:embed="rId1"/>
          <a:stretch/>
        </p:blipFill>
        <p:spPr>
          <a:xfrm>
            <a:off x="-3718080" y="-2789280"/>
            <a:ext cx="16581600" cy="12436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600200" y="258444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28800" y="357120"/>
            <a:ext cx="5929200" cy="241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AMNA PRIETEN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      </a:t>
            </a: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ŞCOALA CU CLASELE I-VIII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BASCOV- ARGE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CLASA a IV- 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7c80"/>
                </a:solidFill>
                <a:latin typeface="Arial"/>
              </a:rPr>
              <a:t>înv. TOMESCU IO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OVESTEA TOAMNE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ÎN IMAGINI ŞI VERS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IMG_2745 (Large)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IMG_2747 (Large)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IMG_5375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IMG_5374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RODUL MUNCII ÎN ECHIPĂ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XPOZIŢ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MG_276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IMG_2768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REGĂTIRI PENTRU CARNA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IMG_283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IMG_2828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ŢII PLA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IMG_2958"/>
          <p:cNvPicPr/>
          <p:nvPr/>
        </p:nvPicPr>
        <p:blipFill>
          <a:blip r:embed="rId1"/>
          <a:stretch/>
        </p:blipFill>
        <p:spPr>
          <a:xfrm>
            <a:off x="500040" y="121428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IMG_2963"/>
          <p:cNvPicPr/>
          <p:nvPr/>
        </p:nvPicPr>
        <p:blipFill>
          <a:blip r:embed="rId2"/>
          <a:stretch/>
        </p:blipFill>
        <p:spPr>
          <a:xfrm>
            <a:off x="4857840" y="1214280"/>
            <a:ext cx="364320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IMG_2956"/>
          <p:cNvPicPr/>
          <p:nvPr/>
        </p:nvPicPr>
        <p:blipFill>
          <a:blip r:embed="rId3"/>
          <a:stretch/>
        </p:blipFill>
        <p:spPr>
          <a:xfrm>
            <a:off x="500040" y="3938760"/>
            <a:ext cx="3929040" cy="2633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IMG_2962"/>
          <p:cNvPicPr/>
          <p:nvPr/>
        </p:nvPicPr>
        <p:blipFill>
          <a:blip r:embed="rId4"/>
          <a:stretch/>
        </p:blipFill>
        <p:spPr>
          <a:xfrm>
            <a:off x="4857840" y="3929040"/>
            <a:ext cx="3643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OAMNĂ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IMG_1121"/>
          <p:cNvPicPr/>
          <p:nvPr/>
        </p:nvPicPr>
        <p:blipFill>
          <a:blip r:embed="rId1"/>
          <a:stretch/>
        </p:blipFill>
        <p:spPr>
          <a:xfrm>
            <a:off x="500040" y="1357200"/>
            <a:ext cx="3786120" cy="242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IMG_1134"/>
          <p:cNvPicPr/>
          <p:nvPr/>
        </p:nvPicPr>
        <p:blipFill>
          <a:blip r:embed="rId2"/>
          <a:stretch/>
        </p:blipFill>
        <p:spPr>
          <a:xfrm>
            <a:off x="4857840" y="135720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IMG_1135"/>
          <p:cNvPicPr/>
          <p:nvPr/>
        </p:nvPicPr>
        <p:blipFill>
          <a:blip r:embed="rId3"/>
          <a:stretch/>
        </p:blipFill>
        <p:spPr>
          <a:xfrm>
            <a:off x="500040" y="3938760"/>
            <a:ext cx="3786120" cy="2419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IMG_1124"/>
          <p:cNvPicPr/>
          <p:nvPr/>
        </p:nvPicPr>
        <p:blipFill>
          <a:blip r:embed="rId4"/>
          <a:stretch/>
        </p:blipFill>
        <p:spPr>
          <a:xfrm>
            <a:off x="4857840" y="3938760"/>
            <a:ext cx="35719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1:23:05Z</dcterms:created>
  <dc:creator>Tomy</dc:creator>
  <dc:description/>
  <dc:language>en-US</dc:language>
  <cp:lastModifiedBy>Andrey</cp:lastModifiedBy>
  <dcterms:modified xsi:type="dcterms:W3CDTF">2010-11-20T12:21:57Z</dcterms:modified>
  <cp:revision>4</cp:revision>
  <dc:subject/>
  <dc:title>Slide 1</dc:title>
</cp:coreProperties>
</file>